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B10-A69C-4F0F-99F3-10359AD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349-7C74-4D23-A80C-E3F75985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3E7-3A14-4936-A656-CE181C09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132-B947-47D3-8307-2A82686B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1AC2-2365-4B3B-ABD6-5416C88C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6AE1-F561-4B66-9732-C2223A7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CD48-9A16-4968-A128-71ACC0D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DC1C-2109-4F02-A1B0-8DE00D1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E686-F94C-4B3E-8D9B-80B3FF2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B82-ACFD-4D85-85BA-49F4F25A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5DC8-B39A-4E89-B827-A831283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8A55-CB7A-4F9F-B978-FD87677F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515D-26AD-4513-80F2-8668F72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56D-2B6B-4B7B-9B8B-DE65F1F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DFE-D088-4CB7-B9E6-94DA2EE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24F-2EC9-46A2-8D5B-044D7390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7F77-7660-4B78-8461-E9EEA546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DF9-96AD-4FD7-80DF-A9587E58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1C3-ECC0-4B8A-B5FF-5CBE8C8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D61-08A3-4463-A49B-DC2D141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B2A-50F6-43E3-B804-DD72ACE9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7DE-0E26-48F2-8A0E-A04D314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90A-54E4-4A84-A3FA-E3CD6569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0D9-7CF9-402D-8CDA-EEE1830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233-A0CD-4897-A2ED-F607D36D3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21A-6152-48A7-9982-B6B022862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Le Passif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</a:rPr>
              <a:t>...getting to know the Passive Voice in Frenc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Change from Active to Passive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n tunnel a relié la Grande-Bretagne au continent en 199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On construira plus tard un lien rout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On avait annoncé la décision à L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e Président a souligné l’importance de la déc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a Grande-Bretagne a été reliée au continent en 1993 par un tunn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n lien routier sera construit plus t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a décision avait été annoncée à L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’importance de la décision a été soulignée par le Prés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Not too hard, yet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e French have a tendency of avoiding the Passive,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Using ‘on’ + the a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déjà oublié cet évén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(This event has already been forgotten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By using a reflex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e se dit pas i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(That is not said her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Bradley Hand ITC TT-Bold"/>
              </a:rPr>
              <a:t>Change to on + active or a reflexive...</a:t>
            </a:r>
            <a:endParaRPr b="0" lang="en-US" sz="32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’est pas vendu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carte a été envoyé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travail a été fi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gouvernement est composé de trois partis principa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Cela ne se vend pas en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envoyé la car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a fini le trav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gouvernement se compose de trois partis principau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NB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French, an Indirect object can’t be the subject of a passive ver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We can say, for example, “I have been given a present.” However, in French, you must say, “On m’a donné un cadeau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is is the case in French with verbs requiring the preposition ‘à’. In English, we could say, “The letter was answered.” In French, this is, “On a répondu à la lettr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To learn!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it qu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emandé 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onné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conseillé 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told tha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asked t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give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ve been advised t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vait conseillé de ne pas voyager seul la n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it que tu as besoin d’a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On m’a demandé de vous accompag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 had been advised not to travel alone at 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’ve been told you need hel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I’ve been asked to go with y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Bradley Hand ITC TT-Bold"/>
              </a:rPr>
              <a:t>What IS the Passive Voice?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English and French, there are two “voices” in grammar: Active and Pas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the Active Voice, someone does something. eg. The boy reads the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the Passive Voice, something gets done by someone. eg. The book is read by the b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The Direct Object of an Active sentence is the Subject of a Passive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How to form the Passive Voice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In both English and French (yay, for once), the Passive uses a form of “to be” plus the Past Particip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e castle was built in the 15th centu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Le château était bâti au 15e sièc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e person/thing doing the action uses the preposition “by” in English; “par” in Fren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Thc castle was built by a noblema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Bradley Hand ITC TT-Bold"/>
              </a:rPr>
              <a:t>Le château était bâti par un no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However...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Yes, there’s always a “however”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In French, the PP has to agree, just like an adj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ville a été détruit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endant la guer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Also, for some verbs of emotion, you will see “de” instead of “par” - this is where we might use “of” in Engl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prof était aimé de ses élè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Bradley Hand ITC TT-Bold"/>
              </a:rPr>
              <a:t>Can I use any tense with the Passive?</a:t>
            </a:r>
            <a:endParaRPr b="0" lang="en-US" sz="36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YES - you may form the Passive with any tense - note that you just get the right tense of </a:t>
            </a:r>
            <a:r>
              <a:rPr b="1" lang="en-GB" sz="2400" spc="-1" strike="noStrike">
                <a:solidFill>
                  <a:srgbClr val="ffffff"/>
                </a:solidFill>
                <a:latin typeface="Bradley Hand ITC TT-Bold"/>
              </a:rPr>
              <a:t>être,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then the PP folows as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Le lait est bu par le chat.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res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était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Im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 été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vait été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Pluper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a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ait bu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(Conditional)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Par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s menhirs ont été levé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ar les Bretons il y a longte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73240" y="3033720"/>
            <a:ext cx="38098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Un autre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chanteur Jacques Brel était vraiment aimé de ses fans pendant les années soix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35400" y="2149560"/>
            <a:ext cx="38102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Un autre exemple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ville de Brest a été presque totalement détruit</a:t>
            </a:r>
            <a:r>
              <a:rPr b="1" lang="en-GB" sz="2800" spc="-1" strike="noStrike">
                <a:solidFill>
                  <a:srgbClr val="ffffff"/>
                </a:solidFill>
                <a:latin typeface="Bradley Hand ITC TT-Bold"/>
              </a:rPr>
              <a:t>e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pendant les bombardements de la deuxième guerre mond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9280" y="1981080"/>
            <a:ext cx="2198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e traité a été signé par les deux gouvern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La Reine Élizabeth est respectée de tout le mo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Un tunnel sera construit l’année procha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The treaty has been signed by the 2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Queen Elizabeth is respected by every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 TT-Bold"/>
              </a:rPr>
              <a:t>A tunnel will be built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34:42Z</dcterms:created>
  <dc:creator>Julia Brown</dc:creator>
  <dc:description/>
  <dc:language>en-US</dc:language>
  <cp:lastModifiedBy>Ministry of Education</cp:lastModifiedBy>
  <dcterms:modified xsi:type="dcterms:W3CDTF">2009-10-13T00:17:23Z</dcterms:modified>
  <cp:revision>14</cp:revision>
  <dc:subject/>
  <dc:title>Le Passif</dc:title>
</cp:coreProperties>
</file>